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08775" cy="9836150"/>
  <p:custShowLst>
    <p:custShow name="Audit" id="0">
      <p:sldLst/>
    </p:custShow>
    <p:custShow name="Custom Show 1" id="1">
      <p:sldLst/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166B3D-8C77-4FE2-A410-24F034D5D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7"/>
          </p:nvPr>
        </p:nvSpPr>
        <p:spPr>
          <a:xfrm>
            <a:off x="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© NCT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Num" idx="25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5E85A6-0349-4A1F-8D07-F7664837F1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3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icas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ery easy to use and more importantly fr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Quick to 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utor should demonstrate practical session with participants so that each participant downloads and experiments with Pic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uggest using ImageBank if participants do not have images on their cameras – see page 16 onwards of course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6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B9E2CC-83A6-46C2-8240-98D93B7F88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e page 25 of course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7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C37611-0C3A-4B99-9266-0F70FAF9DA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8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BBD241-7DFB-43DC-BEC8-ADA9CD0C8B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n-IE" sz="1000" spc="-1" strike="noStrike">
                <a:solidFill>
                  <a:srgbClr val="000000"/>
                </a:solidFill>
                <a:latin typeface="Arial"/>
              </a:rPr>
              <a:t>Tuto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Please emphasise that this is a </a:t>
            </a:r>
            <a:r>
              <a:rPr b="1" lang="en-IE" sz="1000" spc="-1" strike="noStrike">
                <a:solidFill>
                  <a:srgbClr val="000000"/>
                </a:solidFill>
                <a:latin typeface="Arial"/>
              </a:rPr>
              <a:t>practical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course.  Participants need to have hands on experience of each of the tools covered.  It is important that participants are given time to complete the activities included in the modu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ne of the most common concerns is the difference in the level of ability and/or experience of the participants.  It is suggested that participants who are familiar with the tools covered could complete a task and continue at their own pace – creating additional resources or developing more advanced resources while their peers continue with the cour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utor 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ease spend some time on this activity to gauge level of participants and their experience with using IWB in the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8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AC7A10-5224-4F30-A9A2-C9EEC10896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244C9C05-6E37-43E3-9C72-29C8451A05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F4E7D530-A524-4965-85D0-C9400DFB22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utor 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ease spend some time demonstrating each of the tools listed above and allowing the participants to explore the tools. Please use the resources on www.ncte.ie/iwbcourse as appropriate (bearing in mind that some boards may have less resources available than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9"/>
          </p:nvPr>
        </p:nvSpPr>
        <p:spPr>
          <a:xfrm>
            <a:off x="3800880" y="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0ED286-C835-4E03-9683-11EBBE50729A}" type="datetime1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7000"/>
          </a:bodyPr>
          <a:p>
            <a:pPr marL="187920" indent="0">
              <a:lnSpc>
                <a:spcPct val="100000"/>
              </a:lnSpc>
              <a:buNone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nt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activity listed in the module encourages participants to spend time using the tools that they have covered to produce a basic resource to support lite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ease encourage participants to save their work as they may wish to build on it in later s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e participants to share knowledge and finished products and insodoing to build up a bank of resources for the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100000"/>
              </a:lnSpc>
              <a:buNone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utor 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tor should explore best means of sharing resources between the participants i.e. Server, shared folders, pen drives etc.  Please ensure that there is uptodate antivirus software available before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20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BDEB95-2EB3-4273-A431-7D6FE68502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utor 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is is one of the biggest areas of concern for teachers – what to do if things go wrong? See pages 11 and 12 of course man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t is worth spending some time going through the basics of setting up and calibrating the IWB for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ain, the community forums associated with your particular model of board are invaluable for this purpose.  Often a simple Google search will provide an answer.  Encourage your participants to have a central repository of common issues and their fi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1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C05E24-1938-4EF3-9B9B-AB43D32AC8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utor 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ease allow sufficient time for this discussion and for a general overview of digital cameras – participants ideally should have their own (or school) cameras with them and it is a good idea to show them the different parts of the camera and how to connect the camera to the laptop/pc (using SD card/cables/card reader if availabl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2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F7C490-1E54-4063-AFFB-59E4D87075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23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AB1406-CA7C-4576-9B3C-8766C0128E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24"/>
          </p:nvPr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46FFA5-B63E-4CC8-A034-9B6FF172F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C8AD97E9-0118-4E09-8785-7ACC40EB9C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3800880" y="9343080"/>
            <a:ext cx="2905920" cy="49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117323BE-1520-44FC-955A-020F57B6D4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160" cy="36874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3"/>
          <p:cNvSpPr>
            <a:spLocks noGrp="1"/>
          </p:cNvSpPr>
          <p:nvPr>
            <p:ph type="body"/>
          </p:nvPr>
        </p:nvSpPr>
        <p:spPr>
          <a:xfrm>
            <a:off x="670680" y="4671360"/>
            <a:ext cx="5366880" cy="442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ildren can create their own stories by simply using their activities, the digital camera and some software to presen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t expensive technology but very powerful learning opportunities can ens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FD5-0312-4913-B557-5B7D2526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3F1-DC01-4AE4-B53D-F16639DA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E7C-6B5F-431A-83B2-6FAE2D66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4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924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4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924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B2B-47D5-4A5D-A418-F39F4BBA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0863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736-210A-4CB8-A738-5ED089BA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34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924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34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924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CE06-30B2-4445-AADF-1536149C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2D23-DDAA-4688-AD6B-FFFD6F78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9B06-7B1B-47CD-8136-EB349BD4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0E8-C203-4E53-B5A8-B165F7A7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88FC-F275-4729-B99C-83A17207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B50-F76D-4870-8766-35AB80A9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0863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BB21-8912-474A-A989-1A122531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47F8-3D6D-4C9A-ACDE-786C0F7C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7D2-27E7-4FC5-94C1-F8F2FD44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DCA6-68EE-4406-8040-F55527E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0715-B3E6-46A9-A31C-5EF0158A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EBCA-B233-473D-9CB2-35B802DE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340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89240" y="1146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82340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89240" y="1480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D759-987F-4ABD-BEFD-B8340345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CBC-6CC5-4219-BE9B-19803AB1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9E1-6045-431C-9E49-802833BD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0863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ECD-E2FA-4865-A572-FF687E46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E4B-1B94-40EE-8A3C-9D4FC97F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7560" y="1480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C5B-F75E-45BA-8C82-B56E4DFC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7560" y="1146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480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E01-F411-408E-A999-DDDC6B6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600" spc="-1" strike="noStrike">
                <a:solidFill>
                  <a:srgbClr val="ffffff"/>
                </a:solidFill>
                <a:latin typeface="TheSans Light Plain"/>
              </a:rPr>
              <a:t>Click to edit Master title style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Click to edit Master text styl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f79646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213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E" sz="1400" spc="-1" strike="noStrike">
                <a:solidFill>
                  <a:srgbClr val="00206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3280" y="64213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16BEB17-ED83-434F-9E4A-4BEF065A8046}" type="slidenum">
              <a:rPr b="0" lang="en-IE" sz="14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TheSans Light Plain"/>
              </a:rPr>
              <a:t>Click to edit Master title style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462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heSans Light Plain"/>
              </a:rPr>
              <a:t>Click to edit Master text styles</a:t>
            </a:r>
            <a:endParaRPr b="0" lang="en-US" sz="2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Click to edit Master text styl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3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f79646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3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85840">
              <a:lnSpc>
                <a:spcPct val="100000"/>
              </a:lnSpc>
              <a:spcBef>
                <a:spcPts val="32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Fourth level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85840">
              <a:lnSpc>
                <a:spcPct val="100000"/>
              </a:lnSpc>
              <a:spcBef>
                <a:spcPts val="32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Fifth level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645080" y="11462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heSans Light Plain"/>
              </a:rPr>
              <a:t>Click to edit Master text styles</a:t>
            </a:r>
            <a:endParaRPr b="0" lang="en-US" sz="2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Click to edit Master text styl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3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f79646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3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85840">
              <a:lnSpc>
                <a:spcPct val="100000"/>
              </a:lnSpc>
              <a:spcBef>
                <a:spcPts val="32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Fourth level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85840">
              <a:lnSpc>
                <a:spcPct val="100000"/>
              </a:lnSpc>
              <a:spcBef>
                <a:spcPts val="32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Fifth level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600" spc="-1" strike="noStrike">
                <a:solidFill>
                  <a:srgbClr val="ffffff"/>
                </a:solidFill>
                <a:latin typeface="TheSans Light Plain"/>
              </a:rPr>
              <a:t>Click to edit Master title style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79646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79646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214776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Click to edit Master text styl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f79646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85840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00206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2F96DDD-0F85-4CDD-A607-B94E764B97F3}" type="slidenum">
              <a:rPr b="0" lang="en-GB" sz="14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icasa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600" spc="-1" strike="noStrike">
                <a:solidFill>
                  <a:srgbClr val="ffffff"/>
                </a:solidFill>
                <a:latin typeface="TheSans Light Plain"/>
              </a:rPr>
              <a:t>Aims and Objectives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31" name="Picture 2" descr="\\Ncte-server1\documents\Images\Culleens NS Pictures\100_2568.JPG"/>
          <p:cNvPicPr/>
          <p:nvPr/>
        </p:nvPicPr>
        <p:blipFill>
          <a:blip r:embed="rId1"/>
          <a:stretch/>
        </p:blipFill>
        <p:spPr>
          <a:xfrm>
            <a:off x="0" y="0"/>
            <a:ext cx="6300000" cy="4562640"/>
          </a:xfrm>
          <a:prstGeom prst="rect">
            <a:avLst/>
          </a:prstGeom>
          <a:ln w="0">
            <a:noFill/>
          </a:ln>
        </p:spPr>
      </p:pic>
      <p:sp>
        <p:nvSpPr>
          <p:cNvPr id="132" name="Subtitle 2"/>
          <p:cNvSpPr/>
          <p:nvPr/>
        </p:nvSpPr>
        <p:spPr>
          <a:xfrm>
            <a:off x="142920" y="4869000"/>
            <a:ext cx="8857800" cy="175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IE" sz="4000" spc="-1" strike="noStrike">
                <a:solidFill>
                  <a:srgbClr val="002060"/>
                </a:solidFill>
                <a:latin typeface="TheSans Light Plain"/>
              </a:rPr>
              <a:t>Module 1 - Introduction to Interactive Whiteboards in the Primary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262480" y="1000080"/>
            <a:ext cx="3809520" cy="5857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Verdana"/>
              </a:rPr>
              <a:t>Gaeilge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300" spc="-1" strike="noStrike">
                <a:solidFill>
                  <a:srgbClr val="002060"/>
                </a:solidFill>
                <a:latin typeface="Verdana"/>
              </a:rPr>
              <a:t>Cé atá sa phictiúir seo?</a:t>
            </a:r>
            <a:endParaRPr b="0" lang="en-US" sz="23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300" spc="-1" strike="noStrike">
                <a:solidFill>
                  <a:srgbClr val="002060"/>
                </a:solidFill>
                <a:latin typeface="Verdana"/>
              </a:rPr>
              <a:t>Cad atá á dhéanamh aige?</a:t>
            </a:r>
            <a:endParaRPr b="0" lang="en-US" sz="23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300" spc="-1" strike="noStrike">
                <a:solidFill>
                  <a:srgbClr val="002060"/>
                </a:solidFill>
                <a:latin typeface="Verdana"/>
              </a:rPr>
              <a:t>Cén dath atá ar a gheansaí?</a:t>
            </a:r>
            <a:endParaRPr b="0" lang="en-US" sz="23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800" spc="-1" strike="noStrike">
                <a:solidFill>
                  <a:srgbClr val="ffffff"/>
                </a:solidFill>
                <a:latin typeface="TheSans Light Plain"/>
              </a:rPr>
              <a:t>Some examples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076400" y="1917000"/>
            <a:ext cx="3601080" cy="3816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NCTE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600" spc="-1" strike="noStrike">
                <a:solidFill>
                  <a:srgbClr val="ffffff"/>
                </a:solidFill>
                <a:latin typeface="TheSans Light Plain"/>
              </a:rPr>
              <a:t>Practical Session – Image Editing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Free to use tool – </a:t>
            </a:r>
            <a:r>
              <a:rPr b="0" lang="en-IE" sz="2800" spc="-1" strike="noStrike" u="sng">
                <a:solidFill>
                  <a:srgbClr val="ff8119"/>
                </a:solidFill>
                <a:uFillTx/>
                <a:latin typeface="Verdana"/>
                <a:hlinkClick r:id="rId1"/>
              </a:rPr>
              <a:t>www.picasa.com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Downloading and Installing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Organising photos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Adding new photos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Editing photos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Basic fixes, tuning, effects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Crop, add text, rotate and flip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Saving edits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Creating a slideshow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5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E" sz="1400" spc="-1" strike="noStrike">
                <a:solidFill>
                  <a:srgbClr val="002060"/>
                </a:solidFill>
                <a:latin typeface="Arial"/>
              </a:rPr>
              <a:t>© NCT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600" spc="-1" strike="noStrike">
                <a:solidFill>
                  <a:srgbClr val="ffffff"/>
                </a:solidFill>
                <a:latin typeface="TheSans Light Plain"/>
              </a:rPr>
              <a:t>Activity – Assessment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Ways of assessing literacy using ICT and the IWB.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Interviewing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Discussing photos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Reading practice – what happens next?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IWB stories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Mind mapping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Can you think of other uses for assessment?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6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E" sz="1400" spc="-1" strike="noStrike">
                <a:solidFill>
                  <a:srgbClr val="002060"/>
                </a:solidFill>
                <a:latin typeface="Arial"/>
              </a:rPr>
              <a:t>© NCT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800" spc="-1" strike="noStrike">
                <a:solidFill>
                  <a:srgbClr val="ffffff"/>
                </a:solidFill>
                <a:latin typeface="TheSans Light Plain"/>
              </a:rPr>
              <a:t>Checklist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7640" y="1146240"/>
            <a:ext cx="7632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en-IE" sz="2600" spc="-1" strike="noStrike">
                <a:solidFill>
                  <a:srgbClr val="333333"/>
                </a:solidFill>
                <a:latin typeface="TheSans Light Plain"/>
              </a:rPr>
              <a:t>In this module, you have</a:t>
            </a:r>
            <a:endParaRPr b="0" lang="en-US" sz="2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61844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Explored the basic tools for your IWB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Created a resource using these tool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Learned some troubleshooting tip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Considered possibilities of digital photography as a literacy resource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"/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Downloaded and used Picasa as a photo editor.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pic>
        <p:nvPicPr>
          <p:cNvPr id="175" name="Picture 3" descr="C:\Users\Niamh\AppData\Local\Microsoft\Windows\Temporary Internet Files\Content.IE5\YWCAXEL1\MC900250922[1].wmf"/>
          <p:cNvPicPr/>
          <p:nvPr/>
        </p:nvPicPr>
        <p:blipFill>
          <a:blip r:embed="rId1"/>
          <a:stretch/>
        </p:blipFill>
        <p:spPr>
          <a:xfrm>
            <a:off x="5570280" y="2174760"/>
            <a:ext cx="2658960" cy="3951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600" spc="-1" strike="noStrike">
                <a:solidFill>
                  <a:srgbClr val="ffffff"/>
                </a:solidFill>
                <a:latin typeface="TheSans Light Plain"/>
              </a:rPr>
              <a:t>Aims and Objectives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135720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IE" sz="2000" spc="-1" strike="noStrike">
                <a:solidFill>
                  <a:srgbClr val="333333"/>
                </a:solidFill>
                <a:latin typeface="Verdana"/>
              </a:rPr>
              <a:t>Morning Session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Understand basic principles of using an IWB in the classroom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Learn to use the basic tools associated with IWB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Create a simple educational resource to develop literacy using those tool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Learn some basic troubleshooting tip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Understand how the IWB may be used to enhance assessment in the classroom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IE" sz="2000" spc="-1" strike="noStrike">
                <a:solidFill>
                  <a:srgbClr val="333333"/>
                </a:solidFill>
                <a:latin typeface="Verdana"/>
              </a:rPr>
              <a:t>Afternoon Session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Explore using Digital Photography as a springboard to language learning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Become familiar with Picasa – free, easy to use photo editing software and how it may be used as a classroom resource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0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E" sz="1400" spc="-1" strike="noStrike">
                <a:solidFill>
                  <a:srgbClr val="002060"/>
                </a:solidFill>
                <a:latin typeface="Arial"/>
              </a:rPr>
              <a:t>© NCT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2600" spc="-1" strike="noStrike">
                <a:solidFill>
                  <a:srgbClr val="ffffff"/>
                </a:solidFill>
                <a:latin typeface="TheSans Light Plain"/>
              </a:rPr>
              <a:t>Activity - Why use an IWB in classroom?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How do you currently use your IWB in the classroom?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How do your pupils currently use the IWB in the classroom?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How often do they use it?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What are the advantages and pitfalls of using the IWB?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How you would like to develop skills in this area?</a:t>
            </a: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E" sz="1400" spc="-1" strike="noStrike">
                <a:solidFill>
                  <a:srgbClr val="002060"/>
                </a:solidFill>
                <a:latin typeface="Arial"/>
              </a:rPr>
              <a:t>© NCT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4302000" y="2995560"/>
            <a:ext cx="181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46040" y="44280"/>
            <a:ext cx="8086320" cy="64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600" spc="-1" strike="noStrike">
              <a:solidFill>
                <a:srgbClr val="ffffff"/>
              </a:solidFill>
              <a:latin typeface="TheSans Light Plai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800" spc="-1" strike="noStrike">
                <a:solidFill>
                  <a:srgbClr val="ffffff"/>
                </a:solidFill>
                <a:latin typeface="TheSans Light Plain"/>
              </a:rPr>
              <a:t>Getting to know your IWB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777204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IE" sz="2600" spc="-1" strike="noStrike">
                <a:solidFill>
                  <a:srgbClr val="062329"/>
                </a:solidFill>
                <a:latin typeface="TheSans Light Plain"/>
              </a:rPr>
              <a:t>Basic Tools and Tool bar</a:t>
            </a:r>
            <a:endParaRPr b="0" lang="en-US" sz="2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12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Customising the toolbar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Creating a new file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Adding additional pag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Pointer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Pen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Colour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Text typing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298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Resources/Gallery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Eraser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Navigation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Grid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Line tool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Background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62329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062329"/>
                </a:solidFill>
                <a:latin typeface="Verdana"/>
              </a:rPr>
              <a:t>Highlighter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142920" y="5301360"/>
            <a:ext cx="854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IE" sz="1800" spc="-1" strike="noStrike">
                <a:solidFill>
                  <a:srgbClr val="002060"/>
                </a:solidFill>
                <a:latin typeface="Arial"/>
              </a:rPr>
              <a:t>Activity – Create  a simple literacy resource using abov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2600" spc="-1" strike="noStrike">
                <a:solidFill>
                  <a:srgbClr val="ffffff"/>
                </a:solidFill>
                <a:latin typeface="TheSans Light Plain"/>
              </a:rPr>
              <a:t>Activity – Create a Literacy Resource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Using the tools covered, create a simple resource addressing the strands and strand units of the English curriculum. 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See page 10 of the NCTE course manual for more information.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2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E" sz="1400" spc="-1" strike="noStrike">
                <a:solidFill>
                  <a:srgbClr val="002060"/>
                </a:solidFill>
                <a:latin typeface="Arial"/>
              </a:rPr>
              <a:t>© NCT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800" spc="-1" strike="noStrike">
                <a:solidFill>
                  <a:srgbClr val="ffffff"/>
                </a:solidFill>
                <a:latin typeface="TheSans Light Plain"/>
              </a:rPr>
              <a:t>Hints and Tips for using an IWB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Calibrating the IWB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Consistency of software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Trouble shooting screen problems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Verdana"/>
              </a:rPr>
              <a:t>Getting help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3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E" sz="1400" spc="-1" strike="noStrike">
                <a:solidFill>
                  <a:srgbClr val="002060"/>
                </a:solidFill>
                <a:latin typeface="Arial"/>
              </a:rPr>
              <a:t>© NCT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2600" spc="-1" strike="noStrike">
                <a:solidFill>
                  <a:srgbClr val="ffffff"/>
                </a:solidFill>
                <a:latin typeface="TheSans Light Plain"/>
              </a:rPr>
              <a:t>Digital Cameras in the Classroom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7640" y="11966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Brief Overview of Digital Camera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Discussion: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Why use a digital camera in the classroom?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Personalised book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Storie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Using images as a stimulu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Create big book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Classroom presentation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Pictorial maths and history trails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See pg 13 of the NCTE course manual for ideas.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Useful links on pg 14.</a:t>
            </a: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4"/>
          </p:nvPr>
        </p:nvSpPr>
        <p:spPr>
          <a:xfrm>
            <a:off x="6643800" y="6492960"/>
            <a:ext cx="3328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IE" sz="14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E" sz="1400" spc="-1" strike="noStrike">
                <a:solidFill>
                  <a:srgbClr val="002060"/>
                </a:solidFill>
                <a:latin typeface="Arial"/>
              </a:rPr>
              <a:t>© NCT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0863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800" spc="-1" strike="noStrike">
                <a:solidFill>
                  <a:srgbClr val="ffffff"/>
                </a:solidFill>
                <a:latin typeface="Verdana"/>
                <a:ea typeface="Verdana"/>
              </a:rPr>
              <a:t>Some examples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46240"/>
            <a:ext cx="822924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TheSans Light Plain"/>
              </a:rPr>
              <a:t>Maths – Shapes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TheSans Light Plain"/>
              </a:rPr>
              <a:t>Children went on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TheSans Light Plain"/>
              </a:rPr>
              <a:t>a shape hunt 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TheSans Light Plain"/>
              </a:rPr>
              <a:t>armed with a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TheSans Light Plain"/>
              </a:rPr>
              <a:t>digital camera. 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TheSans Light Plain"/>
              </a:rPr>
              <a:t> 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TheSans Light Plain"/>
              </a:rPr>
              <a:t>It’s amazing what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TheSans Light Plain"/>
              </a:rPr>
              <a:t>they found!</a:t>
            </a: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932000" y="2174760"/>
            <a:ext cx="3704040" cy="3557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540036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2800" spc="-1" strike="noStrike">
                <a:solidFill>
                  <a:srgbClr val="ffffff"/>
                </a:solidFill>
                <a:latin typeface="TheSans Light Plain"/>
              </a:rPr>
              <a:t>Some examples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492120" y="2443320"/>
            <a:ext cx="6071760" cy="285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en-IE" sz="2800" spc="-1" strike="noStrike">
                <a:solidFill>
                  <a:srgbClr val="333333"/>
                </a:solidFill>
                <a:latin typeface="Verdana"/>
              </a:rPr>
              <a:t>Cé atá sa phictiúir?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Verdana"/>
              </a:rPr>
              <a:t>Cad atá á dhéanamh aici?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en-IE" sz="2800" spc="-1" strike="noStrike">
                <a:solidFill>
                  <a:srgbClr val="333333"/>
                </a:solidFill>
                <a:latin typeface="Verdana"/>
              </a:rPr>
              <a:t>Tá sí ag ciceáil.</a:t>
            </a:r>
            <a:endParaRPr b="0" lang="en-US" sz="2800" spc="-1" strike="noStrike">
              <a:solidFill>
                <a:srgbClr val="f79646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85840" y="1276200"/>
            <a:ext cx="525744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en-IE" sz="2600" spc="-1" strike="noStrike">
                <a:solidFill>
                  <a:srgbClr val="333333"/>
                </a:solidFill>
                <a:latin typeface="Verdana"/>
              </a:rPr>
              <a:t>Gaeilge</a:t>
            </a:r>
            <a:endParaRPr b="0" lang="en-US" sz="26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2000160" y="4559760"/>
            <a:ext cx="2214360" cy="36900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522760" y="1916280"/>
            <a:ext cx="2809440" cy="2643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e_learning_01">
  <a:themeElements>
    <a:clrScheme name="Custom 13">
      <a:dk1>
        <a:srgbClr val="002060"/>
      </a:dk1>
      <a:lt1>
        <a:srgbClr val="ffffff"/>
      </a:lt1>
      <a:dk2>
        <a:srgbClr val="ff8119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_learning_01">
  <a:themeElements>
    <a:clrScheme name="Custom 13">
      <a:dk1>
        <a:srgbClr val="002060"/>
      </a:dk1>
      <a:lt1>
        <a:srgbClr val="ffffff"/>
      </a:lt1>
      <a:dk2>
        <a:srgbClr val="ff8119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_learning_01">
  <a:themeElements>
    <a:clrScheme name="Custom 13">
      <a:dk1>
        <a:srgbClr val="002060"/>
      </a:dk1>
      <a:lt1>
        <a:srgbClr val="ffffff"/>
      </a:lt1>
      <a:dk2>
        <a:srgbClr val="ff8119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8119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  <Words>1069</Words>
  <Paragraphs>1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9:26:53Z</dcterms:created>
  <dc:creator>NCTE</dc:creator>
  <dc:description/>
  <dc:language>en-US</dc:language>
  <cp:lastModifiedBy>CPD2</cp:lastModifiedBy>
  <dcterms:modified xsi:type="dcterms:W3CDTF">2011-06-12T15:00:03Z</dcterms:modified>
  <cp:revision>724</cp:revision>
  <dc:subject>e-Learning</dc:subject>
  <dc:title>e-Learning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Notes">
    <vt:r8>13</vt:r8>
  </property>
  <property fmtid="{D5CDD505-2E9C-101B-9397-08002B2CF9AE}" pid="4" name="PresentationFormat">
    <vt:lpwstr>On-screen Show (4:3)</vt:lpwstr>
  </property>
  <property fmtid="{D5CDD505-2E9C-101B-9397-08002B2CF9AE}" pid="5" name="Slides">
    <vt:r8>13</vt:r8>
  </property>
</Properties>
</file>