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08775" cy="9836150"/>
  <p:custShowLst>
    <p:custShow name="Audit" id="0">
      <p:sldLst/>
    </p:custShow>
    <p:custShow name="Custom Show 1" id="1">
      <p:sldLst/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10DBBF-B998-4E09-BA55-8D947D930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iki.audacityteam.org/wiki/Audacity_Wiki_Home_Page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9"/>
          </p:nvPr>
        </p:nvSpPr>
        <p:spPr>
          <a:xfrm>
            <a:off x="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© NCT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10"/>
          </p:nvPr>
        </p:nvSpPr>
        <p:spPr>
          <a:xfrm>
            <a:off x="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© NCTE 2011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C4B83CFF-F5F0-436C-848A-BB556185F7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BEF06A88-0DEF-4684-90FC-0C5ABFA3738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© NCTE 2011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4ECCC84D-6C7C-4EA2-ADA2-7555D9D5D4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191E5E6C-7D4D-4256-82D8-138B595267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tor 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tor should spend some time demonstrating each of the tools listed above and allowing the participants to explore the tools. Please use the online resources as appropriate (www.ncte.ie/iwb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2"/>
          </p:nvPr>
        </p:nvSpPr>
        <p:spPr>
          <a:xfrm>
            <a:off x="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© NCTE 2011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919086D2-2DF7-4E5F-A384-8E29F781D1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D5BA7F89-6947-4DD1-8833-57F620E210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ipants may wish to work in pairs or small groups – in this instance participants should ideally work with teachers from the same class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3"/>
          </p:nvPr>
        </p:nvSpPr>
        <p:spPr>
          <a:xfrm>
            <a:off x="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© NCTE 2011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udacity is free and easy to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asily accessible by Junior Infants up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urse notes describe step by step instructions on how to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lp files on every aspect of using LAME are available on  </a:t>
            </a:r>
            <a:r>
              <a:rPr b="0" lang="en-IE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iki.audacityteam.org/wiki/Audacity_Wiki_Home_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4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4D018E-E693-4669-9DE2-1DB1B3055A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5"/>
          </p:nvPr>
        </p:nvSpPr>
        <p:spPr>
          <a:xfrm>
            <a:off x="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© NCTE 2011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utor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ease scroll down to video entitled Audacity – very good example of the use of Audacity for reading and assessment of s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6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551252-A23B-4377-950A-2FABC5CA77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17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42A4B6-BF9B-4E99-8385-CA0D47D84C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8"/>
          </p:nvPr>
        </p:nvSpPr>
        <p:spPr>
          <a:xfrm>
            <a:off x="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© NCTE 2011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FEE-6DAF-4DBE-A280-2CEEC9FE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480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0C9-8097-47DF-B558-AB83DF26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756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7D3-4EFD-4590-AA83-7032F5BB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40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924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40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924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AE7-0AA8-489E-A4B6-BB285DA0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0863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73B-64EA-451A-A254-540EDFFC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756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1480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756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340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924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340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924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FA0-7319-4B73-9215-87EDBE74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773-A88E-4160-96D3-E71852E0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3C2-B95A-49FB-AC2A-37FBDC80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0863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AC4-3837-4BA4-97E2-8F2C5D7F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9BD-7CC4-4B46-823B-D29DC780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756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544-B3D5-4410-B41D-D673609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31C-70A7-45BD-B205-E139E712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600" spc="-1" strike="noStrike">
                <a:solidFill>
                  <a:srgbClr val="ffffff"/>
                </a:solidFill>
                <a:latin typeface="TheSans Light Plain"/>
              </a:rPr>
              <a:t>Click to edit Master title style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Click to edit Master text style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Verdana"/>
              </a:rPr>
              <a:t>Second level</a:t>
            </a:r>
            <a:endParaRPr b="0" lang="en-US" sz="2000" spc="-1" strike="noStrike">
              <a:solidFill>
                <a:srgbClr val="f79646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213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643800" y="6492960"/>
            <a:ext cx="3328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3280" y="64213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6DA8D32-828C-4F30-A73A-B2AFA0C81191}" type="slidenum">
              <a:rPr b="0" lang="en-IE" sz="14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TheSans Light Plain"/>
              </a:rPr>
              <a:t>Click to edit Master title style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heSans Light Plain"/>
              </a:rPr>
              <a:t>Click to edit Master text styles</a:t>
            </a:r>
            <a:endParaRPr b="0" lang="en-US" sz="26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Click to edit Master text style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3"/>
                </a:solidFill>
                <a:latin typeface="Verdana"/>
              </a:rPr>
              <a:t>Second level</a:t>
            </a:r>
            <a:endParaRPr b="0" lang="en-US" sz="2000" spc="-1" strike="noStrike">
              <a:solidFill>
                <a:srgbClr val="f79646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3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85840">
              <a:lnSpc>
                <a:spcPct val="100000"/>
              </a:lnSpc>
              <a:spcBef>
                <a:spcPts val="32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Fourth level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85840">
              <a:lnSpc>
                <a:spcPct val="100000"/>
              </a:lnSpc>
              <a:spcBef>
                <a:spcPts val="32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Fifth level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645080" y="11462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heSans Light Plain"/>
              </a:rPr>
              <a:t>Click to edit Master text styles</a:t>
            </a:r>
            <a:endParaRPr b="0" lang="en-US" sz="26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Click to edit Master text style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3"/>
                </a:solidFill>
                <a:latin typeface="Verdana"/>
              </a:rPr>
              <a:t>Second level</a:t>
            </a:r>
            <a:endParaRPr b="0" lang="en-US" sz="2000" spc="-1" strike="noStrike">
              <a:solidFill>
                <a:srgbClr val="f79646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3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85840">
              <a:lnSpc>
                <a:spcPct val="100000"/>
              </a:lnSpc>
              <a:spcBef>
                <a:spcPts val="32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Fourth level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85840">
              <a:lnSpc>
                <a:spcPct val="100000"/>
              </a:lnSpc>
              <a:spcBef>
                <a:spcPts val="32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Fifth level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hyperlink" Target="http://wiki.audacityteam.org/wiki/Audacity_Wiki_Home_Pag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cte.ie/elearningplan/video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600" spc="-1" strike="noStrike">
                <a:solidFill>
                  <a:srgbClr val="ffffff"/>
                </a:solidFill>
                <a:latin typeface="TheSans Light Plain"/>
              </a:rPr>
              <a:t>Aims and Objectives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9" name="Picture 2" descr="\\Ncte-server1\documents\Images\Culleens NS Pictures\100_2568.JPG"/>
          <p:cNvPicPr/>
          <p:nvPr/>
        </p:nvPicPr>
        <p:blipFill>
          <a:blip r:embed="rId1"/>
          <a:stretch/>
        </p:blipFill>
        <p:spPr>
          <a:xfrm>
            <a:off x="0" y="0"/>
            <a:ext cx="6300000" cy="4562640"/>
          </a:xfrm>
          <a:prstGeom prst="rect">
            <a:avLst/>
          </a:prstGeom>
          <a:ln w="0">
            <a:noFill/>
          </a:ln>
        </p:spPr>
      </p:pic>
      <p:sp>
        <p:nvSpPr>
          <p:cNvPr id="90" name="Subtitle 2"/>
          <p:cNvSpPr/>
          <p:nvPr/>
        </p:nvSpPr>
        <p:spPr>
          <a:xfrm>
            <a:off x="142920" y="4869000"/>
            <a:ext cx="8857800" cy="175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IE" sz="4000" spc="-1" strike="noStrike">
                <a:solidFill>
                  <a:srgbClr val="002060"/>
                </a:solidFill>
                <a:latin typeface="TheSans Light Plain"/>
              </a:rPr>
              <a:t>Module 2 – Creating a literacy resource with your IW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600" spc="-1" strike="noStrike">
                <a:solidFill>
                  <a:srgbClr val="ffffff"/>
                </a:solidFill>
                <a:latin typeface="TheSans Light Plain"/>
              </a:rPr>
              <a:t>Aims and Objectives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135720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Verdana"/>
              </a:rPr>
              <a:t>Morning Session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Learn additional tools of the interactive whiteboard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Develop a literary resource using the tools covered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Verdana"/>
              </a:rPr>
              <a:t>Afternoon Session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Using sound recording as a springboard to language learning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Become familiar with Audacity – free, easy to use sound recording software and how it may be used as a classroom resource for literacy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302000" y="2995560"/>
            <a:ext cx="181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46040" y="44280"/>
            <a:ext cx="8086320" cy="64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GB" sz="2600" spc="-1" strike="noStrike">
              <a:solidFill>
                <a:srgbClr val="ffffff"/>
              </a:solidFill>
              <a:latin typeface="TheSans Light Plai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2800" spc="-1" strike="noStrike">
                <a:solidFill>
                  <a:srgbClr val="ffffff"/>
                </a:solidFill>
                <a:latin typeface="TheSans Light Plain"/>
              </a:rPr>
              <a:t>Activity -  What stage are you at?</a:t>
            </a:r>
            <a:br>
              <a:rPr sz="2800"/>
            </a:b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777204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IE" sz="2400" spc="-1" strike="noStrike">
                <a:solidFill>
                  <a:srgbClr val="062329"/>
                </a:solidFill>
                <a:latin typeface="Verdana"/>
              </a:rPr>
              <a:t>Hooper and Rieber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2329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400" spc="-1" strike="noStrike">
                <a:solidFill>
                  <a:srgbClr val="062329"/>
                </a:solidFill>
                <a:latin typeface="Verdana"/>
              </a:rPr>
              <a:t>Familiarisation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2329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400" spc="-1" strike="noStrike">
                <a:solidFill>
                  <a:srgbClr val="062329"/>
                </a:solidFill>
                <a:latin typeface="Verdana"/>
              </a:rPr>
              <a:t>Utilisation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2329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400" spc="-1" strike="noStrike">
                <a:solidFill>
                  <a:srgbClr val="062329"/>
                </a:solidFill>
                <a:latin typeface="Verdana"/>
              </a:rPr>
              <a:t>Integration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2329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400" spc="-1" strike="noStrike">
                <a:solidFill>
                  <a:srgbClr val="062329"/>
                </a:solidFill>
                <a:latin typeface="Verdana"/>
              </a:rPr>
              <a:t>Reorientation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2329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400" spc="-1" strike="noStrike">
                <a:solidFill>
                  <a:srgbClr val="062329"/>
                </a:solidFill>
                <a:latin typeface="Verdana"/>
              </a:rPr>
              <a:t>Evolution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IE" sz="2400" spc="-1" strike="noStrike">
                <a:solidFill>
                  <a:srgbClr val="062329"/>
                </a:solidFill>
                <a:latin typeface="Verdana"/>
              </a:rPr>
              <a:t>See pg 28 of NCTE course manual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4302000" y="2995560"/>
            <a:ext cx="181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46040" y="44280"/>
            <a:ext cx="8086320" cy="64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GB" sz="2600" spc="-1" strike="noStrike">
              <a:solidFill>
                <a:srgbClr val="ffffff"/>
              </a:solidFill>
              <a:latin typeface="TheSans Light Plai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800" spc="-1" strike="noStrike">
                <a:solidFill>
                  <a:srgbClr val="ffffff"/>
                </a:solidFill>
                <a:latin typeface="TheSans Light Plain"/>
              </a:rPr>
              <a:t>Getting to know your IWB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777204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en-IE" sz="2600" spc="-1" strike="noStrike">
                <a:solidFill>
                  <a:srgbClr val="00315c"/>
                </a:solidFill>
                <a:latin typeface="TheSans Light Plain"/>
              </a:rPr>
              <a:t>Additional Tools </a:t>
            </a:r>
            <a:endParaRPr b="0" lang="en-US" sz="26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Resizing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Cloning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Linking – sound, website, other file page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Moving to back/front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Manipulating objects – top/middle/bottom layer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Grouping/ungrouping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Locking /unlocking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Container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Camera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Spotlight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Reveal too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Protractor  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Dice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Compas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Video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Clock 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302000" y="2995560"/>
            <a:ext cx="181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446040" y="44280"/>
            <a:ext cx="8086320" cy="64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GB" sz="2600" spc="-1" strike="noStrike">
              <a:solidFill>
                <a:srgbClr val="ffffff"/>
              </a:solidFill>
              <a:latin typeface="TheSans Light Plai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2800" spc="-1" strike="noStrike">
                <a:solidFill>
                  <a:srgbClr val="ffffff"/>
                </a:solidFill>
                <a:latin typeface="TheSans Light Plain"/>
              </a:rPr>
              <a:t>Activity -  Create a Literacy Resource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6040" y="1661400"/>
            <a:ext cx="777204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400" spc="-1" strike="noStrike">
                <a:solidFill>
                  <a:srgbClr val="062329"/>
                </a:solidFill>
                <a:latin typeface="Verdana"/>
              </a:rPr>
              <a:t>Using the tools covered so far, create a resource for your own classroom which supports literacy, or enhance the resource you created yesterday. 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400" spc="-1" strike="noStrike">
                <a:solidFill>
                  <a:srgbClr val="062329"/>
                </a:solidFill>
                <a:latin typeface="Verdana"/>
              </a:rPr>
              <a:t>See pg 30 of NCTE course manual for further details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2600" spc="-1" strike="noStrike">
                <a:solidFill>
                  <a:srgbClr val="ffffff"/>
                </a:solidFill>
                <a:latin typeface="TheSans Light Plain"/>
              </a:rPr>
              <a:t>Recording &amp; Using Sound with an IWB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400" spc="-1" strike="noStrike">
                <a:solidFill>
                  <a:srgbClr val="00315c"/>
                </a:solidFill>
                <a:latin typeface="Verdana"/>
              </a:rPr>
              <a:t>Sound Recording options</a:t>
            </a:r>
            <a:endParaRPr b="0" lang="en-US" sz="2400" spc="-1" strike="noStrike">
              <a:solidFill>
                <a:srgbClr val="f7964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400" spc="-1" strike="noStrike">
                <a:solidFill>
                  <a:srgbClr val="00315c"/>
                </a:solidFill>
                <a:latin typeface="Verdana"/>
              </a:rPr>
              <a:t>Audacity </a:t>
            </a:r>
            <a:r>
              <a:rPr b="0" lang="en-US" sz="2400" spc="-1" strike="noStrike" u="sng">
                <a:solidFill>
                  <a:srgbClr val="ff8119"/>
                </a:solidFill>
                <a:uFillTx/>
                <a:latin typeface="Verdana"/>
                <a:hlinkClick r:id="rId1"/>
              </a:rPr>
              <a:t>http://audacity.sourceforge.net/</a:t>
            </a:r>
            <a:endParaRPr b="0" lang="en-US" sz="2400" spc="-1" strike="noStrike">
              <a:solidFill>
                <a:srgbClr val="f7964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119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315c"/>
                </a:solidFill>
                <a:latin typeface="Verdana"/>
              </a:rPr>
              <a:t>LAME Encoder for converting to MP3</a:t>
            </a:r>
            <a:endParaRPr b="0" lang="en-US" sz="2400" spc="-1" strike="noStrike">
              <a:solidFill>
                <a:srgbClr val="f79646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IE" sz="2400" spc="-1" strike="noStrike">
                <a:solidFill>
                  <a:srgbClr val="00315c"/>
                </a:solidFill>
                <a:latin typeface="Verdana"/>
              </a:rPr>
              <a:t>	</a:t>
            </a:r>
            <a:r>
              <a:rPr b="0" lang="en-IE" sz="2400" spc="-1" strike="noStrike">
                <a:solidFill>
                  <a:srgbClr val="f79646"/>
                </a:solidFill>
                <a:latin typeface="Verdana"/>
              </a:rPr>
              <a:t>http://lame.buanzo.com.ar/lame_enc.dll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400" spc="-1" strike="noStrike">
                <a:solidFill>
                  <a:srgbClr val="00315c"/>
                </a:solidFill>
                <a:latin typeface="Verdana"/>
              </a:rPr>
              <a:t>Help files for Audacity and LAME</a:t>
            </a:r>
            <a:endParaRPr b="0" lang="en-US" sz="2400" spc="-1" strike="noStrike">
              <a:solidFill>
                <a:srgbClr val="f79646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IE" sz="2400" spc="-1" strike="noStrike">
                <a:solidFill>
                  <a:srgbClr val="00315c"/>
                </a:solidFill>
                <a:latin typeface="Verdana"/>
              </a:rPr>
              <a:t>	</a:t>
            </a:r>
            <a:r>
              <a:rPr b="0" lang="en-IE" sz="2400" spc="-1" strike="noStrike" u="sng">
                <a:solidFill>
                  <a:srgbClr val="ff8119"/>
                </a:solidFill>
                <a:uFillTx/>
                <a:latin typeface="Verdana"/>
                <a:hlinkClick r:id="rId2"/>
              </a:rPr>
              <a:t>http://wiki.audacityteam.org/wiki/Audacity_Wiki_Home_Page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IE" sz="2400" spc="-1" strike="noStrike">
                <a:solidFill>
                  <a:srgbClr val="00315c"/>
                </a:solidFill>
                <a:latin typeface="Verdana"/>
              </a:rPr>
              <a:t>Activity: </a:t>
            </a:r>
            <a:r>
              <a:rPr b="0" lang="en-IE" sz="2400" spc="-1" strike="noStrike">
                <a:solidFill>
                  <a:srgbClr val="00315c"/>
                </a:solidFill>
                <a:latin typeface="Verdana"/>
              </a:rPr>
              <a:t>Record 3 sound files for use with resource  for literacy prepared in Modules 1 &amp; 2</a:t>
            </a: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7"/>
          </p:nvPr>
        </p:nvSpPr>
        <p:spPr>
          <a:xfrm>
            <a:off x="6643800" y="6492960"/>
            <a:ext cx="3328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2600" spc="-1" strike="noStrike">
                <a:solidFill>
                  <a:srgbClr val="ffffff"/>
                </a:solidFill>
                <a:latin typeface="TheSans Light Plain"/>
              </a:rPr>
              <a:t>Activity - Assessment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Consider possible uses of audio and sound recording in the assessment of literacy in your classroom.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Example of one school using Audacity for literacy and assessment of same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0" lang="en-IE" sz="2000" spc="-1" strike="noStrike" u="sng">
                <a:solidFill>
                  <a:srgbClr val="ff8119"/>
                </a:solidFill>
                <a:uFillTx/>
                <a:latin typeface="Verdana"/>
                <a:hlinkClick r:id="rId1"/>
              </a:rPr>
              <a:t>www.ncte.ie/elearningplan/videos</a:t>
            </a: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6643800" y="6492960"/>
            <a:ext cx="3328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E" sz="1400" spc="-1" strike="noStrike">
                <a:solidFill>
                  <a:srgbClr val="002060"/>
                </a:solidFill>
                <a:latin typeface="Arial"/>
              </a:rPr>
              <a:t>© NCT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800" spc="-1" strike="noStrike">
                <a:solidFill>
                  <a:srgbClr val="ffffff"/>
                </a:solidFill>
                <a:latin typeface="TheSans Light Plain"/>
              </a:rPr>
              <a:t>Checklist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807480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en-IE" sz="2600" spc="-1" strike="noStrike">
                <a:solidFill>
                  <a:srgbClr val="002060"/>
                </a:solidFill>
                <a:latin typeface="TheSans Light Plain"/>
              </a:rPr>
              <a:t>In this module, you have</a:t>
            </a:r>
            <a:endParaRPr b="0" lang="en-US" sz="26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427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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Explored additional tools for your IWB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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Created a literacy resource using these tool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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Explored sound recording as a literacy resource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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Downloaded Audacity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"/>
            </a:pPr>
            <a:r>
              <a:rPr b="0" lang="en-IE" sz="2000" spc="-1" strike="noStrike">
                <a:solidFill>
                  <a:srgbClr val="002060"/>
                </a:solidFill>
                <a:latin typeface="Verdana"/>
              </a:rPr>
              <a:t>Created sound files using Audacity.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pic>
        <p:nvPicPr>
          <p:cNvPr id="116" name="Picture 2" descr="C:\Users\Niamh\AppData\Local\Microsoft\Windows\Temporary Internet Files\Content.IE5\QTC7T2BY\MC900250922[1].wmf"/>
          <p:cNvPicPr/>
          <p:nvPr/>
        </p:nvPicPr>
        <p:blipFill>
          <a:blip r:embed="rId1"/>
          <a:stretch/>
        </p:blipFill>
        <p:spPr>
          <a:xfrm>
            <a:off x="5570280" y="2174760"/>
            <a:ext cx="2658960" cy="3951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_learning_01">
  <a:themeElements>
    <a:clrScheme name="Custom 13">
      <a:dk1>
        <a:srgbClr val="002060"/>
      </a:dk1>
      <a:lt1>
        <a:srgbClr val="ffffff"/>
      </a:lt1>
      <a:dk2>
        <a:srgbClr val="ff8119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_learning_01">
  <a:themeElements>
    <a:clrScheme name="Custom 13">
      <a:dk1>
        <a:srgbClr val="002060"/>
      </a:dk1>
      <a:lt1>
        <a:srgbClr val="ffffff"/>
      </a:lt1>
      <a:dk2>
        <a:srgbClr val="ff8119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8119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5</TotalTime>
  <Application>LibreOffice/7.4.7.2$Linux_X86_64 LibreOffice_project/40$Build-2</Application>
  <AppVersion>15.0000</AppVersion>
  <Words>41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9:26:53Z</dcterms:created>
  <dc:creator>NCTE</dc:creator>
  <dc:description/>
  <dc:language>en-US</dc:language>
  <cp:lastModifiedBy>CPD2</cp:lastModifiedBy>
  <dcterms:modified xsi:type="dcterms:W3CDTF">2011-06-01T13:48:43Z</dcterms:modified>
  <cp:revision>720</cp:revision>
  <dc:subject>e-Learning</dc:subject>
  <dc:title>e-Learning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